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dt" idx="8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 type="ftr" idx="9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 type="sldNum" idx="10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1E349-5E72-4C68-8B84-A93EE1BDB7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DE8D9-95D7-4569-983A-3A3A3A77B4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586B6-B2B6-415E-85B3-5C8291EDE4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D9545-EAF8-488A-838D-80A567CF27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ED601-BE43-4FF7-9042-A2AD6A0AB4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s of activity-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ver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AF501-2C5E-485A-9A56-9C08BE0FAE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100F3-30B1-4E08-B7E5-3541116D0D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C3B6F-12C5-4E9E-B068-EE162648AE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C3273-6230-432C-AB60-EF6D43FDB2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A89FE-93F1-49C6-8F09-60AB14189B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73336-82D3-4250-BE6E-9A7E48EFCD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CAD78-DDCE-4FC3-91A7-A0AE07F92C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91237-7AC7-4D45-9B4F-CD3DE5D2D9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7EF39-8C7B-45F5-91E3-654B183635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E7208-ADB4-4113-9ACB-3E011E86C8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ACF85-CF78-4ED2-A8FB-5C425DE71B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6BDCF-35B5-42B2-986B-E4772B561C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DF836-C31A-4BE7-B8AB-13A90808A1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19FC3-F07F-406A-BD33-81B63299B9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3D680-360C-4F91-AA10-80F56A16C3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3930B-A595-47DA-ACF5-EB9FAED6C2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ity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1DE8C-DFDB-43EF-B2B1-E21D9CD0D2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4CF77E-B70B-4F99-A5BE-759A3AFF4A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14DF3B-90BD-42D4-BD8B-61C387B1D8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30B400-0C30-4181-8444-3C9F8EE80B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27C4DC-CA71-4A4B-8F62-1BE29724F6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12020C-4AFC-48F3-A0AF-AF47E5AB4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BAC81D-478F-4EED-BD13-399C8CEF4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36D470-6F76-4F86-A315-7191205D7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2AA947-B6C3-4826-BD91-050A12957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18D136-C96A-474D-9956-E208B08A7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6094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AEF475-9D43-4C45-A5B1-7F1F5415A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016AD5-FCDA-4A0B-8B85-D60508AAE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061AB3-8B3F-4421-B4C8-C5803C7973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15D9A7-4232-4913-81A4-7090DE8DD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9A4F2F-D1A7-474C-AD53-F7F3511C6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252490-BE63-4ADB-AE53-96D670DD2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A205EF-5DD1-4C07-9122-E974B81D1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3E95C4-B379-4615-B1AE-6B5DA1844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532F0EB-96FF-4EF1-B450-B5EF80882D5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0E02834-794D-42AC-8972-4B93C143EDF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D611E72-FC3D-496A-A7B2-6007956102A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AC334E5-A092-416A-AE46-16032ACC3A4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AF7F083-7577-4235-87D7-791BEF346AC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445D14-EB42-4C64-8D57-664E63E5333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6094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44EF5F8-9A56-4C15-AFF3-6AA50BA0D40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871FA7E-FBA3-4888-AF22-EE508372A2D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DE0AF9B-5E26-400C-AD27-6CC694CAE6D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A989248-CFB8-451C-84B2-428109FA0A5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9752B46-1C82-44EA-8297-F96D363ED8E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3754165-E062-4B19-9CA1-4858ACB6268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2A36790-1247-4C89-BC38-842C3FD1A7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811D26-C3F8-4C65-BFD7-95E7638639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C6A98B-6633-4EBA-88FA-3E4AAC86E3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6094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6DFEF0-3618-427F-9D1A-D97AE6530E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975704-1769-4CA5-8E19-19B7EFBDF1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2AD04A-B7CF-4716-B829-FB2448928E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7D85F3-7B0A-49DB-927A-0DCD553258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а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696080" y="6404400"/>
            <a:ext cx="990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FF548-7D0C-438F-B978-41CF447FA83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ftr" idx="4"/>
          </p:nvPr>
        </p:nvSpPr>
        <p:spPr>
          <a:xfrm>
            <a:off x="3124080" y="6246720"/>
            <a:ext cx="289584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а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sldNum" idx="5"/>
          </p:nvPr>
        </p:nvSpPr>
        <p:spPr>
          <a:xfrm>
            <a:off x="7696080" y="6404400"/>
            <a:ext cx="990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C80C3-81F2-41A6-8160-9410E972C3D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06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6"/>
          </p:nvPr>
        </p:nvSpPr>
        <p:spPr>
          <a:xfrm>
            <a:off x="380880" y="6400080"/>
            <a:ext cx="411480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а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7"/>
          </p:nvPr>
        </p:nvSpPr>
        <p:spPr>
          <a:xfrm>
            <a:off x="7696080" y="6404400"/>
            <a:ext cx="990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196A0-6C3A-442A-9296-9AFBD8912BA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Footer Placeholder 1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а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2"/>
          <p:cNvSpPr/>
          <p:nvPr/>
        </p:nvSpPr>
        <p:spPr>
          <a:xfrm>
            <a:off x="7696080" y="6404400"/>
            <a:ext cx="990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7587D-F79E-4CE0-94FD-0453C92F139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40968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истема правил Вестгарда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80880" y="1131480"/>
            <a:ext cx="8382240" cy="23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зработана д-ром Джеймсом О. Вестгардом, основана на принципах статистик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бор правил или критериев для принятия решений о том, «в контроле» ли систем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именяют, если в серии анализов поставлены контроли, по меньшей мере, двух уровне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е используют только с одним контролем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8" name="Picture 9" descr="westgard_lecturing"/>
          <p:cNvPicPr/>
          <p:nvPr/>
        </p:nvPicPr>
        <p:blipFill>
          <a:blip r:embed="rId1"/>
          <a:stretch/>
        </p:blipFill>
        <p:spPr>
          <a:xfrm>
            <a:off x="2743200" y="3962520"/>
            <a:ext cx="3657600" cy="236844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10"/>
          <p:cNvSpPr/>
          <p:nvPr/>
        </p:nvSpPr>
        <p:spPr>
          <a:xfrm>
            <a:off x="5884920" y="4114800"/>
            <a:ext cx="2116080" cy="3988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Др.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Вестгар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Footer Placeholder 3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а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Slide Number Placeholder 4"/>
          <p:cNvSpPr/>
          <p:nvPr/>
        </p:nvSpPr>
        <p:spPr>
          <a:xfrm>
            <a:off x="7696080" y="6404400"/>
            <a:ext cx="990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B6C2F-A656-451B-98B5-22E7F34FAB8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5" descr="7_glu_control-1"/>
          <p:cNvPicPr/>
          <p:nvPr/>
        </p:nvPicPr>
        <p:blipFill>
          <a:blip r:embed="rId1"/>
          <a:stretch/>
        </p:blipFill>
        <p:spPr>
          <a:xfrm>
            <a:off x="457200" y="457200"/>
            <a:ext cx="8305920" cy="281952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6" descr="7_glu_control_2"/>
          <p:cNvPicPr/>
          <p:nvPr/>
        </p:nvPicPr>
        <p:blipFill>
          <a:blip r:embed="rId2"/>
          <a:stretch/>
        </p:blipFill>
        <p:spPr>
          <a:xfrm>
            <a:off x="457200" y="3429000"/>
            <a:ext cx="8358120" cy="2832120"/>
          </a:xfrm>
          <a:prstGeom prst="rect">
            <a:avLst/>
          </a:prstGeom>
          <a:ln w="0">
            <a:noFill/>
          </a:ln>
        </p:spPr>
      </p:pic>
      <p:sp>
        <p:nvSpPr>
          <p:cNvPr id="238" name="TextBox 1"/>
          <p:cNvSpPr/>
          <p:nvPr/>
        </p:nvSpPr>
        <p:spPr>
          <a:xfrm>
            <a:off x="1074240" y="468360"/>
            <a:ext cx="5269320" cy="274680"/>
          </a:xfrm>
          <a:prstGeom prst="rect">
            <a:avLst/>
          </a:prstGeom>
          <a:solidFill>
            <a:srgbClr val="968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ровень 1. Глюкоза: Номер партии а1б2-гл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Box 6"/>
          <p:cNvSpPr/>
          <p:nvPr/>
        </p:nvSpPr>
        <p:spPr>
          <a:xfrm>
            <a:off x="1074960" y="3429000"/>
            <a:ext cx="5267880" cy="274680"/>
          </a:xfrm>
          <a:prstGeom prst="rect">
            <a:avLst/>
          </a:prstGeom>
          <a:solidFill>
            <a:srgbClr val="968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ровень 2. Глюкоза: Номер партии а2в3-гл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7"/>
          <p:cNvSpPr/>
          <p:nvPr/>
        </p:nvSpPr>
        <p:spPr>
          <a:xfrm>
            <a:off x="4584600" y="5911920"/>
            <a:ext cx="506880" cy="182880"/>
          </a:xfrm>
          <a:prstGeom prst="rect">
            <a:avLst/>
          </a:prstGeom>
          <a:solidFill>
            <a:srgbClr val="968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Verdana"/>
              </a:rPr>
              <a:t>Д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Footer Placeholder 1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а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Slide Number Placeholder 2"/>
          <p:cNvSpPr/>
          <p:nvPr/>
        </p:nvSpPr>
        <p:spPr>
          <a:xfrm>
            <a:off x="7696080" y="6404400"/>
            <a:ext cx="990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CE186-C5FD-44EF-99C6-2AED4CD9E42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Footer Placeholder 1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Slide Number Placeholder 2"/>
          <p:cNvSpPr/>
          <p:nvPr/>
        </p:nvSpPr>
        <p:spPr>
          <a:xfrm>
            <a:off x="6629400" y="6429240"/>
            <a:ext cx="213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561600"/>
            <a:ext cx="8229600" cy="6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Ответы для занят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838080" y="1704600"/>
            <a:ext cx="7391520" cy="417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Дни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21, 22, 24, 26, 27, 30, 31, 33, 34, 36-44 –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«в контроле»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Дни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23, 28, 29 – 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2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День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25 - 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3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День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32 – 2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2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День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35 - 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4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ooter Placeholder 1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а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lide Number Placeholder 2"/>
          <p:cNvSpPr/>
          <p:nvPr/>
        </p:nvSpPr>
        <p:spPr>
          <a:xfrm>
            <a:off x="7696080" y="6404400"/>
            <a:ext cx="990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1DF84-C6CF-4B24-B42F-256941B05F3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Footer Placeholder 1"/>
          <p:cNvSpPr/>
          <p:nvPr/>
        </p:nvSpPr>
        <p:spPr>
          <a:xfrm>
            <a:off x="457200" y="6248520"/>
            <a:ext cx="4343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93840" y="399960"/>
            <a:ext cx="836928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Названия правил системы Вестгарда</a:t>
            </a: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761760" y="1695600"/>
            <a:ext cx="4190760" cy="48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Правило 1</a:t>
            </a:r>
            <a:r>
              <a:rPr b="0" lang="ru-RU" sz="40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Правило 1</a:t>
            </a:r>
            <a:r>
              <a:rPr b="0" lang="ru-RU" sz="4000" spc="-1" strike="noStrike" baseline="-25000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Правило 2</a:t>
            </a:r>
            <a:r>
              <a:rPr b="0" lang="ru-RU" sz="40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Правило 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R</a:t>
            </a:r>
            <a:r>
              <a:rPr b="0" lang="ru-RU" sz="4000" spc="-1" strike="noStrike" baseline="-25000">
                <a:solidFill>
                  <a:srgbClr val="000000"/>
                </a:solidFill>
                <a:latin typeface="Verdana"/>
              </a:rPr>
              <a:t>4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Правило 4</a:t>
            </a:r>
            <a:r>
              <a:rPr b="0" lang="ru-RU" sz="40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Правило 10</a:t>
            </a:r>
            <a:r>
              <a:rPr b="0" i="1" lang="en-US" sz="4000" spc="-1" strike="noStrike" baseline="-25000">
                <a:solidFill>
                  <a:srgbClr val="000000"/>
                </a:solidFill>
                <a:latin typeface="Verdana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876920" y="1447560"/>
            <a:ext cx="4114800" cy="15238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anchor="ctr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Используют для серий исследований, в которых поставлены контроли двух уровней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7" name="Picture 11" descr="j0082253"/>
          <p:cNvPicPr/>
          <p:nvPr/>
        </p:nvPicPr>
        <p:blipFill>
          <a:blip r:embed="rId1"/>
          <a:stretch/>
        </p:blipFill>
        <p:spPr>
          <a:xfrm>
            <a:off x="5791320" y="3276720"/>
            <a:ext cx="2501640" cy="3047760"/>
          </a:xfrm>
          <a:prstGeom prst="rect">
            <a:avLst/>
          </a:prstGeom>
          <a:ln w="0">
            <a:noFill/>
          </a:ln>
        </p:spPr>
      </p:pic>
      <p:sp>
        <p:nvSpPr>
          <p:cNvPr id="178" name="Straight Connector 2"/>
          <p:cNvSpPr/>
          <p:nvPr/>
        </p:nvSpPr>
        <p:spPr>
          <a:xfrm>
            <a:off x="4302000" y="571500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Footer Placeholder 1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а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lide Number Placeholder 2"/>
          <p:cNvSpPr/>
          <p:nvPr/>
        </p:nvSpPr>
        <p:spPr>
          <a:xfrm>
            <a:off x="7696080" y="6404400"/>
            <a:ext cx="990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5E034-B8FD-46EB-A2E1-21DC0541187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553680"/>
            <a:ext cx="6400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Правило Вестгарда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1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2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610480" cy="446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ПРАВИЛО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ПРЕДУПРЕЖДЕНИЕ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–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е причина для признания серии неприемлемой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езультат одного из двух контролей попадает вне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±2S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Указывает на возможные проблем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ледующим шагом применить правило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3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Footer Placeholder 1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а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Slide Number Placeholder 2"/>
          <p:cNvSpPr/>
          <p:nvPr/>
        </p:nvSpPr>
        <p:spPr>
          <a:xfrm>
            <a:off x="7696080" y="6404400"/>
            <a:ext cx="990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013BB-27FD-43C7-941F-C6823E20E2E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Slide Number Placeholder 2"/>
          <p:cNvSpPr/>
          <p:nvPr/>
        </p:nvSpPr>
        <p:spPr>
          <a:xfrm>
            <a:off x="6629400" y="6429240"/>
            <a:ext cx="213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304920" y="1352520"/>
            <a:ext cx="8686800" cy="481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Значения контроля одного уровня в двух последовательных сериях оказываются вне интервала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±2SD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и по одну сторону ил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ба контроля в одной серии оказываются вне интервала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±2SD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ельзя выдавать результаты анализов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Требуются корректирующие действ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Rectangle 2"/>
          <p:cNvSpPr/>
          <p:nvPr/>
        </p:nvSpPr>
        <p:spPr>
          <a:xfrm>
            <a:off x="457200" y="460800"/>
            <a:ext cx="64008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Правило Вестгарда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2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2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Footer Placeholder 1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а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Slide Number Placeholder 2"/>
          <p:cNvSpPr/>
          <p:nvPr/>
        </p:nvSpPr>
        <p:spPr>
          <a:xfrm>
            <a:off x="7696080" y="6404400"/>
            <a:ext cx="990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F2016-DCA0-42AF-957F-5A00CF7FDFC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Footer Placeholder 1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Slide Number Placeholder 2"/>
          <p:cNvSpPr/>
          <p:nvPr/>
        </p:nvSpPr>
        <p:spPr>
          <a:xfrm>
            <a:off x="6629400" y="6429240"/>
            <a:ext cx="213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380880" y="1447920"/>
            <a:ext cx="822960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Значение одного контроля меньше, чем «среднее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–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D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», а значение другого контроля больше, чем «среднее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+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D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»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Интервал между двумя результатами превышает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4 S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изошла случайная ошибка, серия результатов должна считаться неприемлемой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Rectangle 2"/>
          <p:cNvSpPr/>
          <p:nvPr/>
        </p:nvSpPr>
        <p:spPr>
          <a:xfrm>
            <a:off x="457200" y="552960"/>
            <a:ext cx="64008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Правило Вестгарда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4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Footer Placeholder 1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а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Slide Number Placeholder 2"/>
          <p:cNvSpPr/>
          <p:nvPr/>
        </p:nvSpPr>
        <p:spPr>
          <a:xfrm>
            <a:off x="7696080" y="6404400"/>
            <a:ext cx="990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710AE-24A3-4FE8-8F7A-811F0D90D5D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Footer Placeholder 1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lide Number Placeholder 2"/>
          <p:cNvSpPr/>
          <p:nvPr/>
        </p:nvSpPr>
        <p:spPr>
          <a:xfrm>
            <a:off x="6629400" y="6429240"/>
            <a:ext cx="213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533160" y="1447920"/>
            <a:ext cx="7848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Требуются данные контролей предшествующих серий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Значения КК одного уровня в четырех последовательных сериях вне интервала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±1SD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по одну сторону от среднего ил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Контроли обоих уровней в последовательных сериях вне интервала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±1SD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по одну сторону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Rectangle 2"/>
          <p:cNvSpPr/>
          <p:nvPr/>
        </p:nvSpPr>
        <p:spPr>
          <a:xfrm>
            <a:off x="457200" y="537120"/>
            <a:ext cx="64008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Правило Вестгарда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4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1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Footer Placeholder 1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а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Slide Number Placeholder 2"/>
          <p:cNvSpPr/>
          <p:nvPr/>
        </p:nvSpPr>
        <p:spPr>
          <a:xfrm>
            <a:off x="7696080" y="6404400"/>
            <a:ext cx="990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F9B38-D233-42D0-837A-8BF85DCF9C3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Footer Placeholder 1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Slide Number Placeholder 2"/>
          <p:cNvSpPr/>
          <p:nvPr/>
        </p:nvSpPr>
        <p:spPr>
          <a:xfrm>
            <a:off x="6629400" y="6429240"/>
            <a:ext cx="213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533520" y="1752480"/>
            <a:ext cx="8229600" cy="393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Требуются данные контролей предшествующих серий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Значения КК одного уровня в десяти последовательных сериях по одну сторону от среднего ил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Контроли обоих уровней в пяти последовательных сериях по одну сторону от среднего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Rectangle 2"/>
          <p:cNvSpPr/>
          <p:nvPr/>
        </p:nvSpPr>
        <p:spPr>
          <a:xfrm>
            <a:off x="457200" y="552960"/>
            <a:ext cx="64008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Правило Вестгарда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10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Straight Connector 2"/>
          <p:cNvSpPr/>
          <p:nvPr/>
        </p:nvSpPr>
        <p:spPr>
          <a:xfrm>
            <a:off x="5867280" y="912960"/>
            <a:ext cx="228600" cy="0"/>
          </a:xfrm>
          <a:prstGeom prst="line">
            <a:avLst/>
          </a:prstGeom>
          <a:ln w="1908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Footer Placeholder 1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а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lide Number Placeholder 2"/>
          <p:cNvSpPr/>
          <p:nvPr/>
        </p:nvSpPr>
        <p:spPr>
          <a:xfrm>
            <a:off x="7696080" y="6404400"/>
            <a:ext cx="990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DBC76-FB91-465A-9B58-7AEB5C47BB8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Footer Placeholder 1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33520" y="482760"/>
            <a:ext cx="7772400" cy="58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Verdana"/>
              </a:rPr>
              <a:t>КК по правилам Вестгарда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12" name="Picture 3" descr="flow3"/>
          <p:cNvPicPr/>
          <p:nvPr/>
        </p:nvPicPr>
        <p:blipFill>
          <a:blip r:embed="rId1"/>
          <a:stretch/>
        </p:blipFill>
        <p:spPr>
          <a:xfrm>
            <a:off x="762120" y="1295280"/>
            <a:ext cx="7772400" cy="481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213" name="TextBox 1"/>
          <p:cNvSpPr/>
          <p:nvPr/>
        </p:nvSpPr>
        <p:spPr>
          <a:xfrm>
            <a:off x="2133720" y="2633760"/>
            <a:ext cx="5328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Box 7"/>
          <p:cNvSpPr/>
          <p:nvPr/>
        </p:nvSpPr>
        <p:spPr>
          <a:xfrm>
            <a:off x="2056320" y="4248000"/>
            <a:ext cx="4248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Box 8"/>
          <p:cNvSpPr/>
          <p:nvPr/>
        </p:nvSpPr>
        <p:spPr>
          <a:xfrm>
            <a:off x="3670920" y="4248000"/>
            <a:ext cx="4248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9"/>
          <p:cNvSpPr/>
          <p:nvPr/>
        </p:nvSpPr>
        <p:spPr>
          <a:xfrm>
            <a:off x="5256720" y="4248000"/>
            <a:ext cx="4248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10"/>
          <p:cNvSpPr/>
          <p:nvPr/>
        </p:nvSpPr>
        <p:spPr>
          <a:xfrm>
            <a:off x="6780600" y="4248000"/>
            <a:ext cx="4248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Box 11"/>
          <p:cNvSpPr/>
          <p:nvPr/>
        </p:nvSpPr>
        <p:spPr>
          <a:xfrm>
            <a:off x="7390440" y="3703680"/>
            <a:ext cx="4248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Box 12"/>
          <p:cNvSpPr/>
          <p:nvPr/>
        </p:nvSpPr>
        <p:spPr>
          <a:xfrm>
            <a:off x="914400" y="3726000"/>
            <a:ext cx="48564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13"/>
          <p:cNvSpPr/>
          <p:nvPr/>
        </p:nvSpPr>
        <p:spPr>
          <a:xfrm>
            <a:off x="838080" y="5105520"/>
            <a:ext cx="5619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Box 14"/>
          <p:cNvSpPr/>
          <p:nvPr/>
        </p:nvSpPr>
        <p:spPr>
          <a:xfrm>
            <a:off x="2386080" y="5129280"/>
            <a:ext cx="5619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15"/>
          <p:cNvSpPr/>
          <p:nvPr/>
        </p:nvSpPr>
        <p:spPr>
          <a:xfrm>
            <a:off x="3979800" y="5129280"/>
            <a:ext cx="5619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Box 16"/>
          <p:cNvSpPr/>
          <p:nvPr/>
        </p:nvSpPr>
        <p:spPr>
          <a:xfrm>
            <a:off x="5533920" y="5129280"/>
            <a:ext cx="5619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Box 17"/>
          <p:cNvSpPr/>
          <p:nvPr/>
        </p:nvSpPr>
        <p:spPr>
          <a:xfrm>
            <a:off x="7110360" y="5129280"/>
            <a:ext cx="5619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Box 18"/>
          <p:cNvSpPr/>
          <p:nvPr/>
        </p:nvSpPr>
        <p:spPr>
          <a:xfrm>
            <a:off x="3049560" y="2843280"/>
            <a:ext cx="50277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«В КОНТРОЛЕ»                  СЕРИЯ ПРИЕМЛЕМ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19"/>
          <p:cNvSpPr/>
          <p:nvPr/>
        </p:nvSpPr>
        <p:spPr>
          <a:xfrm>
            <a:off x="1523880" y="5605560"/>
            <a:ext cx="678204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«ВНЕ КОНТРОЛЯ»                              СЕРИЯ НЕПРИЕМЛЕМ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rapezoid 6"/>
          <p:cNvSpPr/>
          <p:nvPr/>
        </p:nvSpPr>
        <p:spPr>
          <a:xfrm>
            <a:off x="647640" y="1332000"/>
            <a:ext cx="1658880" cy="863640"/>
          </a:xfrm>
          <a:prstGeom prst="pie">
            <a:avLst/>
          </a:pr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нные контро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Footer Placeholder 1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а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Slide Number Placeholder 2"/>
          <p:cNvSpPr/>
          <p:nvPr/>
        </p:nvSpPr>
        <p:spPr>
          <a:xfrm>
            <a:off x="7696080" y="6404400"/>
            <a:ext cx="990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88B35-A3B9-464F-8EFE-6EED4FD1EDD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Footer Placeholder 1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Slide Number Placeholder 2"/>
          <p:cNvSpPr/>
          <p:nvPr/>
        </p:nvSpPr>
        <p:spPr>
          <a:xfrm>
            <a:off x="6629400" y="6429240"/>
            <a:ext cx="213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7010280" cy="677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99"/>
                </a:solidFill>
                <a:latin typeface="Verdana"/>
              </a:rPr>
              <a:t>Практическое занятие</a:t>
            </a:r>
            <a:endParaRPr b="0" lang="en-US" sz="38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990720" y="1560600"/>
            <a:ext cx="7238880" cy="41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Verdana"/>
              </a:rPr>
              <a:t>Применяя правила Вестгарда, проанализируйте ежедневные значения контролей (следующий слайд)</a:t>
            </a: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8T02:26:00Z</dcterms:created>
  <dc:creator>Robin Barteluk</dc:creator>
  <dc:description/>
  <dc:language>en-US</dc:language>
  <cp:lastModifiedBy>Olga</cp:lastModifiedBy>
  <dcterms:modified xsi:type="dcterms:W3CDTF">2013-05-11T16:01:01Z</dcterms:modified>
  <cp:revision>21</cp:revision>
  <dc:subject/>
  <dc:title>Westgard Multirule System</dc:title>
</cp:coreProperties>
</file>